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33"/>
                </a:solidFill>
                <a:latin typeface="Times New Roman"/>
              </a:rPr>
              <a:t>Click to move the slide</a:t>
            </a:r>
            <a:endParaRPr b="0" lang="en-US" sz="4200" spc="-1" strike="noStrike">
              <a:solidFill>
                <a:srgbClr val="660033"/>
              </a:solidFill>
              <a:latin typeface="Times New Roman"/>
            </a:endParaRPr>
          </a:p>
        </p:txBody>
      </p:sp>
      <p:sp>
        <p:nvSpPr>
          <p:cNvPr id="1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2967C-CD0A-4AEB-8221-C269747402BE}"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8B3C2-66EF-4546-9D69-48F4F143D373}"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πυκνότητα της συμμετοχής (density of membership) αναφέρεται στο ποσοστό όσων ασκούν το δικαίωμα της συμμετοχής τους σε κάποια ομάδα επί του συνόλου των δικαιουμένων να συμμετάσχουν σε αυτή. Όταν η πυκνότητα της συμμετοχής είναι υψηλή, αυξάνεται αναλόγως η επιρροή των ομάδων και κατ' επέκταση ενισχύεται η διαπραγματευτική τους ισχύς έναντι της κυβέρνησης.</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733A2-087C-43B1-89CD-EEB869E42ACA}"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απολυταρχικοί ηγέτες βλέπουν στο πρόσωπο των ελεύθερα οργανωμένων ομάδων μια απειλή για την εξουσία τους. Έτσι, επιδιώκουν είτε την ποδηγέτηση των ομάδων, είτε την ενσωμάτωσή τους στην υφιστάμενη δομή της εξουσίας.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41E07-0295-40A7-A9A0-B89CB3EB3AB5}"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ις ανελεύθερες δημοκρατίες, τα σύνορα ανάμεσα στη δημόσια και την ιδιωτική σφαίρα είναι προφανώς δυσδιάκριτα, δίνοντας τη δυνατότητα στον πρόεδρο και στους συμμάχους του να παρεμβαίνουν στην οικονομία, για να επιβραβεύουν τους φίλους και να τιμωρούν τους εχθρούς τους.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υλάχιστον στις πιο αναπτυγμένες ανελεύθερες δημοκρατίες, το αποτέλεσμα μπορεί να είναι ένα διττό σύστημα αντιπροσώπευσης, που παραχωρεί κάποιο ρόλο στις ομάδες συμφερόντων σε ζητήματα ρουτίνας, ενώ παράλληλα διατηρεί τα πελατειακά δίκτυα σε ζητήματα ζωτικής σημασίας για τον πρόεδρο και το περιβάλλον του.</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γενικό συμπέρασμα είναι ότι, παρόλο που οι ανελεύθερες δημοκρατίες επιτρέπουν σε ορισμένα συμφέροντα να εκφράζονται, αυτές καθαυτές οι ομάδες συμφερόντων είναι λιγότερο σημαντικές απ' ό,τι σε μια φιλελεύθερη δημοκρατία.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0FFE3-48A5-4EAC-8ED0-0B8F9A71105D}"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ομάδες συμφερόντων (interest groups) (ονομάζονται και ομάδες πίεσης) είναι μη κυβερνητικές οργανώσεις, οι οποίες επιδιώκουν την άσκηση επιρροής στη δημόσια πολιτική. Στις ομάδες συμφερόντων εντάσσονται, για παράδειγμα, οι ενώσεις των εργοδοτών, τα συνδικάτα, οι καταναλωτικές ενώσεις, οι ενώσεις που εκπροσωπούν συγκεκριμένους επιχειρηματικούς ή επαγγελματικούς κλάδους, καθώς και οι ομάδες πίεσης που προωθούν συγκεκριμένες αξιώσεις. Ο όρος συνήθως δεν περιλαμβάνει φορείς όπως οι επιχειρήσεις και οι τοπικές αρχές, οι οποίες μπορεί να ασκούν πιέσεις και επιρροή στην κυβέρνηση, δεν είναι, όμως, αυτός ο πρωταρχικός σκοπός του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55E72-FABE-41CE-9D1D-476BF63076AE}"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πρώτο πράγμα που μας έρχεται στο νου, όταν αναφερόμαστε σε ομάδες συμφερόντων, είναι η εικόνα προστατευτικών ενώσεων (protective groups) που εκφράζουν τα ζωτικά συμφέροντα των μελών τους - για παράδειγμα, τα συνδικάτα, οι ενώσεις εργοδοτών και οι επαγγελματικοί σύλλογοι. Οι ενώσεις αυτές, που ονομάζονται καμιά φορά κλαδικές ή λειτουργικές ομάδες, σχηματίζονται με σκοπό την άσκηση επιρροής στην κυβέρνηση.</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προστατευτικές ομάδες δεν είναι οι μοναδικές μορφές οργανωμένου συμφέροντος. Μάλιστα, πολλές ομάδες που δημιουργήθηκαν μετά τη δεκαετία του '60 δεν έχουν καν προστατευτικό χαρακτήρα, αλλά επιδιώκουν την προώθηση συγκεκριμένων σκοπών. Οι σχηματισμοί αυτοί προωθούν ιδέες, ταυτότητες, πολιτικές και αξίες και ονομάζονται ομάδες πίεσης για την προώθηση συγκεκριμένων αξιώσεων (promotional groups). Εδώ ανήκουν, π.χ., οι οργανώσεις που τάσσονται υπέρ ή κατά των αμβλώσεων, αυτές που πολεμούν την πορνογραφία και οι περιβαλλοντικές οργανώσεις. Τα μέλη τους ενδιαφέρονται για το συγκεκριμένο ζήτημα χωρίς να έχουν τα ίδια κάποιο συμφέρον.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DB737-C647-4983-A40F-BA835CA33945}"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ορυφαία συνομοσπονδία εργαζομένων και εργοδοτών (peak association) είναι η οργάνωση που εκπροσωπεί τα ευρύτερα συμφέροντα του κεφαλαίου ή των εργατών στους κυβερνητικούς θεσμούς. Τα μέλη τους δεν είναι πρόσωπα αλλά άλλοι οργανισμοί, όπως επιχειρήσεις, σωματεία εργαζομένων, εργατικά συνδικάτ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0B7A1-B4E8-47E9-BB2C-607508564AD9}"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δημοκρατικό πλαίσιο, ο κορπορατισμός (corporatism) (που συνοψίζεται στην Ευρώπη με τη φράση το σύστημα των κοινωνικών εταίρων) δηλώνει μια σχέση ανάμεσα στο κράτος και τις ομάδες συμφερόντων κατά την οποία οι σημαντικές αποφάσεις για τα εσωτερικά ζητήματα διαμορφώνονται έπειτα από συζητήσεις ανάμεσα στην κυβέρνηση και τις κορυφαίες οργανώσεις που εκπροσωπούν τους βασικούς κοινωνικούς εταίρους: το κεφάλαιο και τους εργαζομένου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CEBF4-3A3F-4D5A-A1E1-04E5FA447713}"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 πλουραλισμός (pluralism), που σημαίνει κυριολεκτικά εξουσία από τους πολλούς, αναφέρεται σε πολιτικό σύστημα όπου πολυάριθμες ανταγωνιστικές ομάδες συμφερόντων ασκούν σημαντική επιρροή στην κυβέρνηση, η οποία ανταποκρίνεται στα αιτήματά τους. Το κράτος παίζει το ρόλο του επιδιαιτητή, και όχι του ενεργού δρώντος. Κάθε ομάδα αφοσιώνεται στη δική της σφαίρα δράσης (για παράδειγμα, στην εκπαίδευση ή την υγεία), οπότε αποτρέπεται η γενική κυριαρχία της οποιασδήποτε ελί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86A1C-89A6-466F-B89E-E27572E427E9}"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ιδηρά τρίγωνα (iron triangles), υποκυβερνήσεις και πολιτικές κοινότητες είναι κλειστές συμμαχίες συμφερόντων, που βασίζονται σε ανώτερους γραφειοκράτες, σε ηγέτες ομάδων συμφερόντων και, ενίοτε, σε αρμόδιους νομοθέτες. Κυριαρχούν στη χάραξη της πολιτικής σε συγκεκριμένους τομείς (όπως η αγροτική πολιτική). Σε πολλές φιλελεύθερες δημοκρατίες, αυτά τα μυστικοπαθή και εξόχως μη πλουραλιστικά καρτέλ έχουν παραχωρήσει τη θέση τους σε πιο χαλαρά και πλουραλιστικά θεματικά δίκτυα (issue networks), τα οποία είναι πιο ανοιχτά στις άλλες οργανώσεις και τον τεκμηριωμένο διάλογο.</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4F573-69D0-40DE-9472-0B1C7BCDCF8C}"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Το ιδανικό για τις ομάδες συμφερόντων είναι οι άμεσες επαφές με τους υπουργούς που συνθέτουν την εκτελεστική εξουσία. Οι συνομιλίες με υπουργούς πριν από την αποκρυστάλλωση συγκεκριμένων πολιτικών έχει ιδιαίτερη αξία, καθώς επιτρέπει σε μια ομάδα να συμμετάσχει στη διαδικασία λήψης των αποφάσεων στο στάδιο της διαμόρφωσής τους.</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Στο παρελθόν, πολλές ομάδες συμφερόντων προσπάθησαν να χρησιμοποιήσουν κάποιο πολιτικό κόμμα της αρεσκείας τους ως δίοδο επιρροής, με το κόμμα και την ομάδα συμφέροντος να συνδέονται με οιονεί οικογενειακούς δεσμούς. Αυτοί οι δεσμοί ανάμεσα στις ομάδες και τα κόμματα είναι, όμως, σήμερα η εξαίρεση. Σήμερα βλέπουμε μια όλο και πιο έντονη τάση εξειδίκευσης, καθώς οι ομάδες συμφερόντων εστιάζουν στα μέλη τους και τα κόμματα στους ψηφοφόρους τους. Το αποτέλεσμα είναι ότι οι περισσότερες ομάδες συμφερόντων προτιμούν να επιδιώκουν ανεξάρτητα τους σκοπούς τους, παρά να αναπτύσσουν στενούς δεσμούς με κάποιο πολιτικό κόμμα.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Ο Τύπος, το ραδιόφωνο και η τηλεόραση αποτελούν ένα ακόμη πρόσφορο μέσο για την άσκηση επιρροής από τις ομάδες συμφερόντων. Εξ ορισμού, τα μηνύματα των ΜΜΕ απευθύνονται στο ευρύ κοινό, και όχι σε συγκεκριμένους πολιτικούς παράγοντες. Έτσι, τα μέσα ενημέρωσης αποτελούν βασική προτεραιότητα για τις ομάδες πίεσης που προωθούν συγκεκριμένες αξιώσεις, καθώς με αυτό τον τρόπο μπορούν να κινητοποιήσουν την κοινή γνώμη.</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Ο Νόμος περί αναδιοργάνωσης της νομοθετικής εξουσίας (1946), των ΗΠΑ, ορίζει το λομπίστα (lobbyist) ως κάθε άτομο ή οργάνωση που λαμβάνει χρήματα από τρίτους προκειμένου να ασκήσει επιρροή στη νομοθετική διαδικασία. Ο όρος προέρχεται από τον προθάλαμο (= lobby) της βρετανικής Βουλής των Κοινοτήτων. Εκεί οι πολίτες μπορούν παραδοσιακά να προσεγγίζουν τα μέλη του κοινοβουλίου για να εκφράσουν τα αιτήματά τους. </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1C331-1BA4-4AE2-A154-2E6312FE4F48}"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Δεν υπάρχει αμφιβολία ότι ορισμένες ομάδες συμφερόντων ασκούν μεγαλύτερη επιρροή στην κυβέρνηση από κάποιες άλλες. Για ποιο λόγο, λοιπόν, ορισμένες ομάδες συμφερόντων είναι ισχυρότερες από κάποιες άλλες; Η απάντηση σχετίζεται με τέσσερα χαρακτηριστικά των εν λόγω ομάδων: τη νομιμοποίησή τους, τον αριθμό των μελών τους, τις οικονομικές τους δυνατότητες και τα μέσα πίεσης που διαθέτουν.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6A4A91-8E42-4078-BDDB-BB21C9D8FE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BD6DC0-DE9C-4793-8C74-8BB3FC6E5D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3B2C04-B9FB-4C63-A5AC-29BCAEBE23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7F9BE2-7724-4F18-9132-0B3B4855E3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8D059D-858B-4503-BE02-011A9459E0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41240A-7B28-4384-8DA1-B34E6D9A5C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141274-546A-44D1-B46F-8F3A140B22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75CD03-0166-45D1-AD75-0317698AC9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A54420-46B0-4D2A-903D-E3E762FB26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BCB4FD-B6B2-4E44-BF58-71CC6D620F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C97CFC-6A1F-4DEA-9E1E-3E89B880AD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24788E-9677-4B63-9DB8-970F460BBD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EEF1B3-153B-458E-A175-9A1F24905B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E88880-7EFC-459C-994C-17B8F58A90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748D2B-0BE7-49CA-AA68-67E484BC90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EAEA11-3EA9-44FC-9197-90563D7ACB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85070D-419B-4FF3-9E16-D69CAC6D09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FA6B40-D6E9-4F1C-8C86-CF2971985E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6B34CA-EB1A-49BF-8BB5-1B03EE64AD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4FF6AB-923D-4BC9-91A2-8216274D55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39DD03-6786-4C30-A63D-C2C2179408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426D52-78CE-476D-996B-BBDA7C9951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6E4708-D644-4DE1-A535-5BA55D18D1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78CDBB-2337-4114-B5EB-D3E4428317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95a3d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33"/>
                </a:solidFill>
                <a:latin typeface="Times New Roman"/>
              </a:rPr>
              <a:t>Click to edit the title text format</a:t>
            </a:r>
            <a:endParaRPr b="0" lang="en-US" sz="4200" spc="-1" strike="noStrike">
              <a:solidFill>
                <a:srgbClr val="66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cccc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95a3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95a3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739FC-9F41-4B68-A230-36D379355500}" type="slidenum">
              <a:rPr b="0" lang="el-GR"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95a3d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6"/>
              <p:cNvSpPr/>
              <p:nvPr/>
            </p:nvSpPr>
            <p:spPr>
              <a:xfrm>
                <a:off x="1038240" y="3733920"/>
                <a:ext cx="7648560" cy="2138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7"/>
              <p:cNvSpPr/>
              <p:nvPr/>
            </p:nvSpPr>
            <p:spPr>
              <a:xfrm>
                <a:off x="0" y="4876920"/>
                <a:ext cx="990720" cy="0"/>
              </a:xfrm>
              <a:prstGeom prst="line">
                <a:avLst/>
              </a:prstGeom>
              <a:ln w="507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10"/>
              <p:cNvSpPr/>
              <p:nvPr/>
            </p:nvSpPr>
            <p:spPr>
              <a:xfrm>
                <a:off x="635040" y="685800"/>
                <a:ext cx="8077320" cy="0"/>
              </a:xfrm>
              <a:prstGeom prst="line">
                <a:avLst/>
              </a:prstGeom>
              <a:ln w="442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33"/>
                </a:solidFill>
                <a:latin typeface="Times New Roman"/>
              </a:rPr>
              <a:t>Click to edit the title text format</a:t>
            </a:r>
            <a:endParaRPr b="0" lang="en-US" sz="4200" spc="-1" strike="noStrike">
              <a:solidFill>
                <a:srgbClr val="660033"/>
              </a:solidFill>
              <a:latin typeface="Times New Roman"/>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cccc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95a3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95a3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99ADE-77B8-43E9-AFF5-3A04BF234718}" type="slidenum">
              <a:rPr b="0" lang="el-G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057040" y="1143000"/>
            <a:ext cx="662940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800" spc="-1" strike="noStrike">
                <a:solidFill>
                  <a:srgbClr val="660033"/>
                </a:solidFill>
                <a:latin typeface="Times New Roman"/>
              </a:rPr>
              <a:t>Κεφάλαιο 12</a:t>
            </a:r>
            <a:endParaRPr b="0" lang="en-US" sz="4800" spc="-1" strike="noStrike">
              <a:solidFill>
                <a:srgbClr val="660033"/>
              </a:solidFill>
              <a:latin typeface="Times New Roman"/>
            </a:endParaRPr>
          </a:p>
        </p:txBody>
      </p:sp>
      <p:sp>
        <p:nvSpPr>
          <p:cNvPr id="105" name="PlaceHolder 2"/>
          <p:cNvSpPr>
            <a:spLocks noGrp="1"/>
          </p:cNvSpPr>
          <p:nvPr>
            <p:ph type="subTitle"/>
          </p:nvPr>
        </p:nvSpPr>
        <p:spPr>
          <a:xfrm>
            <a:off x="1371600" y="3962160"/>
            <a:ext cx="6858000" cy="1600200"/>
          </a:xfrm>
          <a:prstGeom prst="rect">
            <a:avLst/>
          </a:prstGeom>
          <a:noFill/>
          <a:ln w="0">
            <a:noFill/>
          </a:ln>
        </p:spPr>
        <p:txBody>
          <a:bodyPr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Ομάδες συμφερόντω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Προϋποθέσεις επιρροής </a:t>
            </a:r>
            <a:endParaRPr b="0" lang="en-US" sz="4200" spc="-1" strike="noStrike">
              <a:solidFill>
                <a:srgbClr val="660033"/>
              </a:solidFill>
              <a:latin typeface="Times New Roman"/>
            </a:endParaRPr>
          </a:p>
        </p:txBody>
      </p:sp>
      <p:sp>
        <p:nvSpPr>
          <p:cNvPr id="124"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 πυκνότητα της συμμετοχής (density of membership) αναφέρεται στο ποσοστό όσων ασκούν το δικαίωμα της συμμετοχής τους σε κάποια ομάδα επί του συνόλου των δικαιουμένων να συμμετάσχουν σε αυτή.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660033"/>
                </a:solidFill>
                <a:latin typeface="Times New Roman"/>
              </a:rPr>
              <a:t>Οι ομάδες συμφερόντων </a:t>
            </a:r>
            <a:br>
              <a:rPr sz="3800"/>
            </a:br>
            <a:r>
              <a:rPr b="0" lang="el-GR" sz="3800" spc="-1" strike="noStrike">
                <a:solidFill>
                  <a:srgbClr val="660033"/>
                </a:solidFill>
                <a:latin typeface="Times New Roman"/>
              </a:rPr>
              <a:t>στα απολυταρχικά κράτη</a:t>
            </a:r>
            <a:endParaRPr b="0" lang="en-US" sz="3800" spc="-1" strike="noStrike">
              <a:solidFill>
                <a:srgbClr val="660033"/>
              </a:solidFill>
              <a:latin typeface="Times New Roman"/>
            </a:endParaRPr>
          </a:p>
        </p:txBody>
      </p:sp>
      <p:sp>
        <p:nvSpPr>
          <p:cNvPr id="126"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Ποδηγέτηση των ομάδων</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Ενσωμάτωσή τους στην υφιστάμενη δομή εξουσία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660033"/>
                </a:solidFill>
                <a:latin typeface="Times New Roman"/>
              </a:rPr>
              <a:t>Οι ομάδες συμφερόντων </a:t>
            </a:r>
            <a:br>
              <a:rPr sz="3800"/>
            </a:br>
            <a:r>
              <a:rPr b="0" lang="el-GR" sz="3800" spc="-1" strike="noStrike">
                <a:solidFill>
                  <a:srgbClr val="660033"/>
                </a:solidFill>
                <a:latin typeface="Times New Roman"/>
              </a:rPr>
              <a:t>στις ανελεύθερες δημοκρατίες</a:t>
            </a:r>
            <a:endParaRPr b="0" lang="en-US" sz="3800" spc="-1" strike="noStrike">
              <a:solidFill>
                <a:srgbClr val="660033"/>
              </a:solidFill>
              <a:latin typeface="Times New Roman"/>
            </a:endParaRPr>
          </a:p>
        </p:txBody>
      </p:sp>
      <p:sp>
        <p:nvSpPr>
          <p:cNvPr id="128"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Πελατειακά δίκτυα</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Περιορισμένη σημασία των ομάδων συμφερόντω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4 - TextBox"/>
          <p:cNvSpPr/>
          <p:nvPr/>
        </p:nvSpPr>
        <p:spPr>
          <a:xfrm>
            <a:off x="1295280" y="2328840"/>
            <a:ext cx="7010640" cy="1922760"/>
          </a:xfrm>
          <a:prstGeom prst="rect">
            <a:avLst/>
          </a:prstGeom>
          <a:noFill/>
          <a:ln w="9360">
            <a:solidFill>
              <a:srgbClr val="d3d31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ea typeface="Calibri"/>
              </a:rPr>
              <a:t>Απαγορεύεται η αναδημοσίευση ή αναπαραγωγή του παρόντος έργου με οποιονδήποτε τρόπο χωρίς γραπτή άδεια του εκδότη, σύμφωνα με το Ν. 2121/1993 και τη Διεθνή Σύμβαση της Βέρνης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ea typeface="Calibri"/>
              </a:rPr>
              <a:t>(που έχει κυρωθεί με τον Ν. 100/1975)</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Ορισμός </a:t>
            </a:r>
            <a:endParaRPr b="0" lang="en-US" sz="4200" spc="-1" strike="noStrike">
              <a:solidFill>
                <a:srgbClr val="660033"/>
              </a:solidFill>
              <a:latin typeface="Times New Roman"/>
            </a:endParaRPr>
          </a:p>
        </p:txBody>
      </p:sp>
      <p:sp>
        <p:nvSpPr>
          <p:cNvPr id="10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Οι ομάδες συμφερόντων (interest groups) (ονομάζονται και ομάδες πίεσης) είναι μη κυβερνητικές οργανώσεις, οι οποίες επιδιώκουν την άσκηση επιρροής στη δημόσια πολιτική.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660033"/>
                </a:solidFill>
                <a:latin typeface="Times New Roman"/>
              </a:rPr>
              <a:t>Κατηγοριοποίηση των ομάδων συμφερόντων</a:t>
            </a:r>
            <a:endParaRPr b="0" lang="en-US" sz="3800" spc="-1" strike="noStrike">
              <a:solidFill>
                <a:srgbClr val="660033"/>
              </a:solidFill>
              <a:latin typeface="Times New Roman"/>
            </a:endParaRPr>
          </a:p>
        </p:txBody>
      </p:sp>
      <p:sp>
        <p:nvSpPr>
          <p:cNvPr id="10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Προστατευτικές ομάδες</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Ομάδες πίεση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660033"/>
                </a:solidFill>
                <a:latin typeface="Times New Roman"/>
              </a:rPr>
              <a:t>Κατηγοριοποίηση των ομάδων συμφερόντων</a:t>
            </a:r>
            <a:endParaRPr b="0" lang="en-US" sz="3800" spc="-1" strike="noStrike">
              <a:solidFill>
                <a:srgbClr val="660033"/>
              </a:solidFill>
              <a:latin typeface="Times New Roman"/>
            </a:endParaRPr>
          </a:p>
        </p:txBody>
      </p:sp>
      <p:sp>
        <p:nvSpPr>
          <p:cNvPr id="11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Κορυφαία συνομοσπονδία εργαζομένων και εργοδοτών (peak association) είναι η οργάνωση που εκπροσωπεί τα ευρύτερα συμφέροντα του κεφαλαίου ή των εργατών στους κυβερνητικούς θεσμούς. Τα μέλη τους δεν είναι πρόσωπα αλλά άλλοι οργανισμοί, όπως επιχειρήσεις, σωματεία εργαζομένων, εργατικά συνδικάτ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660033"/>
                </a:solidFill>
                <a:latin typeface="Times New Roman"/>
              </a:rPr>
              <a:t>Κατηγοριοποίηση των ομάδων συμφερόντων</a:t>
            </a:r>
            <a:endParaRPr b="0" lang="en-US" sz="3800" spc="-1" strike="noStrike">
              <a:solidFill>
                <a:srgbClr val="660033"/>
              </a:solidFill>
              <a:latin typeface="Times New Roman"/>
            </a:endParaRPr>
          </a:p>
        </p:txBody>
      </p:sp>
      <p:sp>
        <p:nvSpPr>
          <p:cNvPr id="11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Στο δημοκρατικό πλαίσιο, ο κορπορατισμός (corporatism) δηλώνει μια σχέση ανάμεσα στο κράτος και τις ομάδες συμφερόντων κατά την οποία οι σημαντικές αποφάσεις για τα εσωτερικά ζητήματα διαμορφώνονται έπειτα από συζητήσεις ανάμεσα στην κυβέρνηση και τις κορυφαίες οργανώσεις που εκπροσωπούν τους βασικούς κοινωνικούς εταίρους: το κεφάλαιο και τους εργαζομένου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660033"/>
                </a:solidFill>
                <a:latin typeface="Times New Roman"/>
              </a:rPr>
              <a:t>Ομάδες συμφερόντων στις φιλελεύθερες δημοκρατίες</a:t>
            </a:r>
            <a:endParaRPr b="0" lang="en-US" sz="3800" spc="-1" strike="noStrike">
              <a:solidFill>
                <a:srgbClr val="660033"/>
              </a:solidFill>
              <a:latin typeface="Times New Roman"/>
            </a:endParaRPr>
          </a:p>
        </p:txBody>
      </p:sp>
      <p:sp>
        <p:nvSpPr>
          <p:cNvPr id="11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Ο πλουραλισμός (pluralism), που σημαίνει κυριολεκτικά εξουσία από τους πολλούς, αναφέρεται σε πολιτικό σύστημα όπου πολυάριθμες ανταγωνιστικές ομάδες συμφερόντων ασκούν σημαντική επιρροή στην κυβέρνηση, η οποία ανταποκρίνεται στα αιτήματά τους.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660033"/>
                </a:solidFill>
                <a:latin typeface="Times New Roman"/>
              </a:rPr>
              <a:t>Ομάδες συμφερόντων </a:t>
            </a:r>
            <a:br>
              <a:rPr sz="3800"/>
            </a:br>
            <a:r>
              <a:rPr b="0" lang="el-GR" sz="3800" spc="-1" strike="noStrike">
                <a:solidFill>
                  <a:srgbClr val="660033"/>
                </a:solidFill>
                <a:latin typeface="Times New Roman"/>
              </a:rPr>
              <a:t>στις φιλελεύθερες δημοκρατίες</a:t>
            </a:r>
            <a:endParaRPr b="0" lang="en-US" sz="3800" spc="-1" strike="noStrike">
              <a:solidFill>
                <a:srgbClr val="660033"/>
              </a:solidFill>
              <a:latin typeface="Times New Roman"/>
            </a:endParaRPr>
          </a:p>
        </p:txBody>
      </p:sp>
      <p:sp>
        <p:nvSpPr>
          <p:cNvPr id="11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Σιδηρά τρίγωνα (iron triangles), υποκυβερνήσεις και πολιτικές κοινότητες είναι κλειστές συμμαχίες συμφερόντων, που βασίζονται σε ανώτερους γραφειοκράτες, σε ηγέτες ομάδων συμφερόντων και, ενίοτε, σε αρμόδιους νομοθέτες.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Δίοδοι επιρροής</a:t>
            </a:r>
            <a:endParaRPr b="0" lang="en-US" sz="4200" spc="-1" strike="noStrike">
              <a:solidFill>
                <a:srgbClr val="660033"/>
              </a:solidFill>
              <a:latin typeface="Times New Roman"/>
            </a:endParaRPr>
          </a:p>
        </p:txBody>
      </p:sp>
      <p:sp>
        <p:nvSpPr>
          <p:cNvPr id="11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Άμεσες επαφές με τα κέντρα αποφάσεων</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Έμμεση επιρροή μέσω των πολιτικών κομμάτων</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Έμμεση επιρροή μέσω της κοινής γνώμης</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Λομπίστε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Προϋποθέσεις επιρροής </a:t>
            </a:r>
            <a:endParaRPr b="0" lang="en-US" sz="4200" spc="-1" strike="noStrike">
              <a:solidFill>
                <a:srgbClr val="660033"/>
              </a:solidFill>
              <a:latin typeface="Times New Roman"/>
            </a:endParaRPr>
          </a:p>
        </p:txBody>
      </p:sp>
      <p:sp>
        <p:nvSpPr>
          <p:cNvPr id="121" name="PlaceHolder 2"/>
          <p:cNvSpPr>
            <a:spLocks noGrp="1"/>
          </p:cNvSpPr>
          <p:nvPr>
            <p:ph/>
          </p:nvPr>
        </p:nvSpPr>
        <p:spPr>
          <a:xfrm>
            <a:off x="914400" y="1600200"/>
            <a:ext cx="7772400" cy="380880"/>
          </a:xfrm>
          <a:prstGeom prst="rect">
            <a:avLst/>
          </a:prstGeom>
          <a:noFill/>
          <a:ln w="0">
            <a:noFill/>
          </a:ln>
        </p:spPr>
        <p:txBody>
          <a:bodyPr anchor="t">
            <a:normAutofit fontScale="95000"/>
          </a:bodyPr>
          <a:p>
            <a:pPr marL="325800" indent="-325800">
              <a:spcBef>
                <a:spcPts val="49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Σχήμα 12.4:</a:t>
            </a:r>
            <a:r>
              <a:rPr b="0" lang="en-US" sz="2000" spc="-1" strike="noStrike">
                <a:solidFill>
                  <a:srgbClr val="000000"/>
                </a:solidFill>
                <a:latin typeface="Arial"/>
              </a:rPr>
              <a:t> </a:t>
            </a:r>
            <a:r>
              <a:rPr b="0" lang="el-GR" sz="2000" spc="-1" strike="noStrike">
                <a:solidFill>
                  <a:srgbClr val="000000"/>
                </a:solidFill>
                <a:latin typeface="Arial"/>
              </a:rPr>
              <a:t>Προϋποθέσεις επιρροής ομάδων συμφερόντων</a:t>
            </a:r>
            <a:endParaRPr b="0" lang="en-US" sz="2000" spc="-1" strike="noStrike">
              <a:solidFill>
                <a:srgbClr val="000000"/>
              </a:solidFill>
              <a:latin typeface="Arial"/>
            </a:endParaRPr>
          </a:p>
        </p:txBody>
      </p:sp>
      <p:pic>
        <p:nvPicPr>
          <p:cNvPr id="122" name="Picture 4" descr="C:\Users\EPIMELEIA\Dropbox\Kritiki-Book-Proofing\14-sigritiki-politiki-hague\images\Hag_Fig_12_04.png"/>
          <p:cNvPicPr/>
          <p:nvPr/>
        </p:nvPicPr>
        <p:blipFill>
          <a:blip r:embed="rId1"/>
          <a:stretch/>
        </p:blipFill>
        <p:spPr>
          <a:xfrm>
            <a:off x="2438280" y="2209680"/>
            <a:ext cx="4106880" cy="3959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31T18:54:37Z</dcterms:created>
  <dc:creator>pc</dc:creator>
  <dc:description/>
  <dc:language>en-US</dc:language>
  <cp:lastModifiedBy>EPIMELEIA</cp:lastModifiedBy>
  <dcterms:modified xsi:type="dcterms:W3CDTF">2013-09-23T09:38:58Z</dcterms:modified>
  <cp:revision>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